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63827"/>
        <c:axId val="5382956"/>
      </c:barChart>
      <c:catAx>
        <c:axId val="49163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2956"/>
        <c:crosses val="autoZero"/>
        <c:auto val="1"/>
        <c:lblAlgn val="ctr"/>
        <c:lblOffset val="100"/>
        <c:noMultiLvlLbl val="0"/>
      </c:catAx>
      <c:valAx>
        <c:axId val="5382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63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7F39-2B7E-4D6A-A671-00F61506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634-AAC8-41E5-ABDA-1395C029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C55-E9A0-41DF-8584-9AFD91AE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760-04A1-490F-8826-361064FE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ADE-1718-49B0-9066-6CEAF325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0CF-AF54-4FC4-8B1C-B46107E6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BC1-0431-4A27-8D23-EE99C2D7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3C1-BA12-401B-9D15-7F27D4BF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715-B438-4131-9A0F-742B3008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601-1F7A-461D-85A4-8E9DB4E5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188-2385-494B-AC20-56E717DF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623-B386-47C2-9A4F-BC9A3799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93B20-6FBA-4B58-A0CD-166051181B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