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151672"/>
        <c:axId val="16030470"/>
      </c:barChart>
      <c:catAx>
        <c:axId val="141516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30470"/>
        <c:crosses val="autoZero"/>
        <c:auto val="1"/>
        <c:lblAlgn val="ctr"/>
        <c:lblOffset val="100"/>
        <c:noMultiLvlLbl val="0"/>
      </c:catAx>
      <c:valAx>
        <c:axId val="160304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516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2ABC-E55E-42DB-BDF8-9E74A651A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AB7D-7365-4C48-809A-BB8AE9C0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251B-1374-4DD6-AAA6-5AD36E82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DE51-828E-49BB-9284-2F754D211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589C-01F7-458A-8636-709E7004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EC13-C28A-4E2B-AD28-8C8CCD3E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F423-FC00-4B15-B448-AB8FB57D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E935-1C6A-493B-9163-7C17221D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1FDE-750A-4499-9FC5-F280F757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3779-E0AB-41F5-9796-8FF51368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EDEF-C183-4D67-A99C-40C7FB6A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D50A-AA2D-4358-9CDE-249754C7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F8D92-64E0-4BB1-BE99-6BEAF9F9D3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