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82721"/>
        <c:axId val="78968069"/>
      </c:barChart>
      <c:catAx>
        <c:axId val="53482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68069"/>
        <c:crosses val="autoZero"/>
        <c:auto val="1"/>
        <c:lblAlgn val="ctr"/>
        <c:lblOffset val="100"/>
        <c:noMultiLvlLbl val="0"/>
      </c:catAx>
      <c:valAx>
        <c:axId val="78968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82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F5A-8FDC-47D4-8D03-BB4CB73E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63D-6C23-4251-A54E-30F1E4EE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416-884A-40E8-AAB6-BB52BE1A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99A-13BF-45DA-8BA9-B6D29B0C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A0B-95E2-4A3E-A285-DFD0B632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4EA-EB75-4619-BBD5-E6F91A4C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287-AD9C-4AD5-88C3-2A7E36C9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49F-38C7-49E0-BB65-9F02687D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635-3BC4-4C4E-8E7C-58FEEDFD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FBA-0900-4955-8C81-17DB39C6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D97-E7C2-46FC-BFF2-D36BCA0C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DE1-7750-4F6A-9783-CE911CFB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7D5A2-CEA9-493F-991F-098B6EAAE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